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743-D3B7-4E91-BDF0-CA65D411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133-E1CC-4BD1-A4B6-A4F72B48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414-17A7-4513-AAE0-111482A9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C7C-A201-4A00-88ED-E6E62A0E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245-0813-42D0-A838-9880F51E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67B-CB21-4E6E-90E7-F9B58A3E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F43-3C7F-46B2-82F8-387AD999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1D2-09FE-4672-80D1-1D17733E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45A-3E25-40AD-9D36-A6E68AEF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DC9-3B75-4315-9713-CA9B092F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67F-CC69-4061-AE2A-30E32CD7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449-300A-4B02-A63B-0D3A1456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07CA-FB1A-4525-ADE8-4592BBC9A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 dessin tech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ndre un système pour déceler une pa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voir tous les produits techniques (véhicule, bâtiment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895480" y="380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s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6360" y="1052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effectuer un dessin technique, on utilise un ensemble de traits dont chacun possède une signification préc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95280" y="2060640"/>
            <a:ext cx="6301080" cy="3125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 flipV="1">
            <a:off x="3959280" y="3500280"/>
            <a:ext cx="612720" cy="97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751280" y="3860640"/>
            <a:ext cx="433440" cy="64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48000" y="4508640"/>
            <a:ext cx="316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 fort pour les contours et arêtes vi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58920" y="3465360"/>
            <a:ext cx="433080" cy="1800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5481720"/>
            <a:ext cx="35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ompu fin pour contours et arêtes cach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5300640"/>
            <a:ext cx="28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6237360"/>
            <a:ext cx="3203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563640" y="2889360"/>
            <a:ext cx="1547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6360" y="2637000"/>
            <a:ext cx="31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te fin pour les axes de symétrie et de ré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3392640"/>
            <a:ext cx="28450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08360" y="2816280"/>
            <a:ext cx="3887640" cy="2546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94200" y="1376280"/>
            <a:ext cx="3673440" cy="254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91760" y="36828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ation orthog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26828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est la projection orthogonale de chacune des faces sur un plan de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788000" y="800280"/>
            <a:ext cx="3949560" cy="3954240"/>
            <a:chOff x="4788000" y="800280"/>
            <a:chExt cx="3949560" cy="3954240"/>
          </a:xfrm>
        </p:grpSpPr>
        <p:sp>
          <p:nvSpPr>
            <p:cNvPr id="183" name=""/>
            <p:cNvSpPr/>
            <p:nvPr/>
          </p:nvSpPr>
          <p:spPr>
            <a:xfrm>
              <a:off x="4824360" y="800280"/>
              <a:ext cx="0" cy="18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24360" y="800280"/>
              <a:ext cx="391320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88000" y="2611440"/>
              <a:ext cx="3913200" cy="21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75640" y="2889360"/>
              <a:ext cx="0" cy="18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V="1">
            <a:off x="2951280" y="1483920"/>
            <a:ext cx="2052360" cy="14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551640" y="3573360"/>
            <a:ext cx="198108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588000" y="3789360"/>
            <a:ext cx="1944720" cy="151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203640" y="2565000"/>
            <a:ext cx="198108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274920" y="1628280"/>
            <a:ext cx="2052720" cy="14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348000" y="2707920"/>
            <a:ext cx="201600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">
            <a:off x="6011280" y="213336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779640" y="4689360"/>
            <a:ext cx="323640" cy="36036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508464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 d’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533700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 obtient la vue de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5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75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50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950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91760" y="2970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ation orthog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508720" y="1089000"/>
            <a:ext cx="2808360" cy="1839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76360" y="116064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 refait la même opération suivant chaque direction d’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11280" y="2266920"/>
            <a:ext cx="5437080" cy="4283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1280" y="2637000"/>
            <a:ext cx="431640" cy="19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424720" y="2852640"/>
            <a:ext cx="611280" cy="3240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981000"/>
            <a:ext cx="611280" cy="3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72000" y="2816280"/>
            <a:ext cx="7556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28000" y="1125360"/>
            <a:ext cx="0" cy="50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50920" y="4221000"/>
            <a:ext cx="421308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0360" y="2457360"/>
            <a:ext cx="0" cy="5032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03280" y="2276640"/>
            <a:ext cx="3745080" cy="6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488360" y="1700280"/>
            <a:ext cx="396720" cy="2160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5049720"/>
            <a:ext cx="3887640" cy="16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43640" y="4400640"/>
            <a:ext cx="35640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 vue principale est appelée vue de 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 vue de droite est à gauche de la vue de 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vue de droite est à gauche de la vue de 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vue de dessus est au dessous de la vue de 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vue de dessous est au dessus de la vue de 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75680" y="47628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rrespondance entre les v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19280" y="1521000"/>
            <a:ext cx="6143760" cy="4838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700360" y="1521000"/>
            <a:ext cx="0" cy="489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59640" y="1449360"/>
            <a:ext cx="0" cy="504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55640" y="3681360"/>
            <a:ext cx="6337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84360" y="2384280"/>
            <a:ext cx="640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2097000"/>
            <a:ext cx="0" cy="201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908000" y="4113360"/>
            <a:ext cx="17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2097000"/>
            <a:ext cx="0" cy="2293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727280" y="4257720"/>
            <a:ext cx="2130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727280" y="3968640"/>
            <a:ext cx="28872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35280" y="4149720"/>
            <a:ext cx="9000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71640" y="3645000"/>
            <a:ext cx="0" cy="5396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2205000"/>
            <a:ext cx="0" cy="4284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9640" y="2205000"/>
            <a:ext cx="0" cy="4284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546264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représentation d’un système ou d’une pièce peut se faire de différentes faç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609480" y="2743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533520" y="3581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perspective Eclat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533520" y="4495680"/>
            <a:ext cx="2361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repré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thog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013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559480" cy="373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62320" y="609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met de voir le système e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629400" cy="549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1600" y="609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perspective Eclat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440" y="1608120"/>
            <a:ext cx="6097680" cy="3954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86200" y="609480"/>
            <a:ext cx="4038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pour une notice de mo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pour donner des références de pièces de rechang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613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43200" y="609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représentation orthog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3886200" cy="270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1371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sin d’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sin de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95560" cy="274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5257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un système ou un ensemble de piè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5410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ésente une seule piè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447920" y="4114440"/>
            <a:ext cx="411480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715000" y="4267080"/>
            <a:ext cx="457200" cy="99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505320"/>
            <a:ext cx="53352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59280" y="1268280"/>
            <a:ext cx="3027240" cy="427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59280" y="3392640"/>
            <a:ext cx="3027240" cy="21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3392640"/>
            <a:ext cx="1511280" cy="21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4473720"/>
            <a:ext cx="1511280" cy="106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4473720"/>
            <a:ext cx="755640" cy="106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380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ésentation des dess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216864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1640" y="8002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s formats normali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6021360"/>
            <a:ext cx="8001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 format A0 a une surface de 1 m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s formats se déduisent les uns des autres à partir du format A0 en divisant par moitié le coté le plus gr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411280" y="4473720"/>
            <a:ext cx="648000" cy="1079280"/>
            <a:chOff x="2411280" y="4473720"/>
            <a:chExt cx="648000" cy="1079280"/>
          </a:xfrm>
        </p:grpSpPr>
        <p:sp>
          <p:nvSpPr>
            <p:cNvPr id="75" name=""/>
            <p:cNvSpPr/>
            <p:nvPr/>
          </p:nvSpPr>
          <p:spPr>
            <a:xfrm flipH="1">
              <a:off x="2627280" y="4473720"/>
              <a:ext cx="43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627280" y="5553000"/>
              <a:ext cx="43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5280" y="4473720"/>
              <a:ext cx="0" cy="1079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6200000">
              <a:off x="2288160" y="4775760"/>
              <a:ext cx="6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9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059280" y="4041720"/>
            <a:ext cx="757080" cy="432000"/>
            <a:chOff x="3059280" y="4041720"/>
            <a:chExt cx="757080" cy="432000"/>
          </a:xfrm>
        </p:grpSpPr>
        <p:sp>
          <p:nvSpPr>
            <p:cNvPr id="80" name=""/>
            <p:cNvSpPr/>
            <p:nvPr/>
          </p:nvSpPr>
          <p:spPr>
            <a:xfrm flipV="1">
              <a:off x="3059280" y="4221000"/>
              <a:ext cx="0" cy="252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816360" y="4221000"/>
              <a:ext cx="0" cy="252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59280" y="4329000"/>
              <a:ext cx="75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66920" y="4041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059280" y="5481720"/>
            <a:ext cx="1512720" cy="438840"/>
            <a:chOff x="3059280" y="5481720"/>
            <a:chExt cx="1512720" cy="438840"/>
          </a:xfrm>
        </p:grpSpPr>
        <p:sp>
          <p:nvSpPr>
            <p:cNvPr id="85" name=""/>
            <p:cNvSpPr/>
            <p:nvPr/>
          </p:nvSpPr>
          <p:spPr>
            <a:xfrm flipV="1">
              <a:off x="3059280" y="5596920"/>
              <a:ext cx="0" cy="32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572000" y="5596920"/>
              <a:ext cx="0" cy="32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59280" y="5776560"/>
              <a:ext cx="1512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9080" y="5481720"/>
              <a:ext cx="68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158920" y="3392640"/>
            <a:ext cx="900360" cy="2160360"/>
            <a:chOff x="2158920" y="3392640"/>
            <a:chExt cx="900360" cy="2160360"/>
          </a:xfrm>
        </p:grpSpPr>
        <p:sp>
          <p:nvSpPr>
            <p:cNvPr id="90" name=""/>
            <p:cNvSpPr/>
            <p:nvPr/>
          </p:nvSpPr>
          <p:spPr>
            <a:xfrm flipH="1">
              <a:off x="2448000" y="3392640"/>
              <a:ext cx="6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411280" y="5553000"/>
              <a:ext cx="648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555640" y="3392640"/>
              <a:ext cx="36360" cy="21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2014200" y="4365360"/>
              <a:ext cx="65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59280" y="5445000"/>
            <a:ext cx="3025440" cy="684000"/>
            <a:chOff x="3059280" y="5445000"/>
            <a:chExt cx="3025440" cy="684000"/>
          </a:xfrm>
        </p:grpSpPr>
        <p:sp>
          <p:nvSpPr>
            <p:cNvPr id="95" name=""/>
            <p:cNvSpPr/>
            <p:nvPr/>
          </p:nvSpPr>
          <p:spPr>
            <a:xfrm flipV="1">
              <a:off x="3059280" y="5481360"/>
              <a:ext cx="0" cy="6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084720" y="5445000"/>
              <a:ext cx="0" cy="648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59280" y="6022800"/>
              <a:ext cx="3025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82920" y="551016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48360" y="1268280"/>
            <a:ext cx="1224000" cy="4248360"/>
            <a:chOff x="6048360" y="1268280"/>
            <a:chExt cx="1224000" cy="4248360"/>
          </a:xfrm>
        </p:grpSpPr>
        <p:sp>
          <p:nvSpPr>
            <p:cNvPr id="100" name=""/>
            <p:cNvSpPr/>
            <p:nvPr/>
          </p:nvSpPr>
          <p:spPr>
            <a:xfrm>
              <a:off x="6084720" y="1268280"/>
              <a:ext cx="1187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48360" y="5516640"/>
              <a:ext cx="111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40360" y="1268280"/>
              <a:ext cx="0" cy="424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6070680" y="3298680"/>
              <a:ext cx="9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84720" y="1989000"/>
            <a:ext cx="1511640" cy="215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2060640"/>
            <a:ext cx="1297080" cy="20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80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ésentation des dess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6360" y="108900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cadre: il doit être tracer à chaque des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50920" y="1916280"/>
            <a:ext cx="3022560" cy="21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 à 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0200" y="1989000"/>
            <a:ext cx="2737080" cy="201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 à 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400720" y="2168640"/>
            <a:ext cx="1116000" cy="368280"/>
            <a:chOff x="5400720" y="2168640"/>
            <a:chExt cx="1116000" cy="368280"/>
          </a:xfrm>
        </p:grpSpPr>
        <p:sp>
          <p:nvSpPr>
            <p:cNvPr id="111" name=""/>
            <p:cNvSpPr/>
            <p:nvPr/>
          </p:nvSpPr>
          <p:spPr>
            <a:xfrm>
              <a:off x="6227640" y="2492280"/>
              <a:ext cx="289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758920" y="2492280"/>
              <a:ext cx="46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400720" y="2492280"/>
              <a:ext cx="684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35640" y="216864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03280" y="2276640"/>
            <a:ext cx="1116000" cy="368280"/>
            <a:chOff x="503280" y="2276640"/>
            <a:chExt cx="1116000" cy="368280"/>
          </a:xfrm>
        </p:grpSpPr>
        <p:sp>
          <p:nvSpPr>
            <p:cNvPr id="116" name=""/>
            <p:cNvSpPr/>
            <p:nvPr/>
          </p:nvSpPr>
          <p:spPr>
            <a:xfrm>
              <a:off x="1330200" y="2600280"/>
              <a:ext cx="289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61480" y="2600280"/>
              <a:ext cx="46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03280" y="2600280"/>
              <a:ext cx="684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8200" y="227664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382560" y="2349360"/>
            <a:ext cx="1081440" cy="368280"/>
            <a:chOff x="3382560" y="2349360"/>
            <a:chExt cx="1081440" cy="368280"/>
          </a:xfrm>
        </p:grpSpPr>
        <p:sp>
          <p:nvSpPr>
            <p:cNvPr id="121" name=""/>
            <p:cNvSpPr/>
            <p:nvPr/>
          </p:nvSpPr>
          <p:spPr>
            <a:xfrm>
              <a:off x="4175280" y="2673360"/>
              <a:ext cx="28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706560" y="2673360"/>
              <a:ext cx="46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382560" y="2673360"/>
              <a:ext cx="684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82920" y="2349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840000" y="2168640"/>
            <a:ext cx="1045080" cy="368280"/>
            <a:chOff x="6840000" y="2168640"/>
            <a:chExt cx="1045080" cy="368280"/>
          </a:xfrm>
        </p:grpSpPr>
        <p:sp>
          <p:nvSpPr>
            <p:cNvPr id="126" name=""/>
            <p:cNvSpPr/>
            <p:nvPr/>
          </p:nvSpPr>
          <p:spPr>
            <a:xfrm>
              <a:off x="7596360" y="2492280"/>
              <a:ext cx="28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127640" y="2492280"/>
              <a:ext cx="46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840000" y="2492280"/>
              <a:ext cx="684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48360" y="216864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97160" y="3607920"/>
            <a:ext cx="368280" cy="1040040"/>
            <a:chOff x="2297160" y="3607920"/>
            <a:chExt cx="368280" cy="1040040"/>
          </a:xfrm>
        </p:grpSpPr>
        <p:sp>
          <p:nvSpPr>
            <p:cNvPr id="131" name=""/>
            <p:cNvSpPr/>
            <p:nvPr/>
          </p:nvSpPr>
          <p:spPr>
            <a:xfrm flipV="1">
              <a:off x="2627280" y="3607920"/>
              <a:ext cx="0" cy="3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7280" y="3968640"/>
              <a:ext cx="0" cy="25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27280" y="4076640"/>
              <a:ext cx="0" cy="46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2232000" y="4214520"/>
              <a:ext cx="49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411280" y="1525680"/>
            <a:ext cx="368280" cy="1039320"/>
            <a:chOff x="2411280" y="1525680"/>
            <a:chExt cx="368280" cy="1039320"/>
          </a:xfrm>
        </p:grpSpPr>
        <p:sp>
          <p:nvSpPr>
            <p:cNvPr id="136" name=""/>
            <p:cNvSpPr/>
            <p:nvPr/>
          </p:nvSpPr>
          <p:spPr>
            <a:xfrm flipV="1">
              <a:off x="2741400" y="1525680"/>
              <a:ext cx="0" cy="39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41400" y="1885680"/>
              <a:ext cx="0" cy="25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1400" y="1993680"/>
              <a:ext cx="0" cy="468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2346120" y="2131560"/>
              <a:ext cx="4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480000" y="1521000"/>
            <a:ext cx="368280" cy="1008000"/>
            <a:chOff x="6480000" y="1521000"/>
            <a:chExt cx="368280" cy="1008000"/>
          </a:xfrm>
        </p:grpSpPr>
        <p:grpSp>
          <p:nvGrpSpPr>
            <p:cNvPr id="141" name=""/>
            <p:cNvGrpSpPr/>
            <p:nvPr/>
          </p:nvGrpSpPr>
          <p:grpSpPr>
            <a:xfrm>
              <a:off x="6810480" y="1592280"/>
              <a:ext cx="0" cy="936720"/>
              <a:chOff x="6810480" y="1592280"/>
              <a:chExt cx="0" cy="936720"/>
            </a:xfrm>
          </p:grpSpPr>
          <p:sp>
            <p:nvSpPr>
              <p:cNvPr id="142" name=""/>
              <p:cNvSpPr/>
              <p:nvPr/>
            </p:nvSpPr>
            <p:spPr>
              <a:xfrm flipV="1">
                <a:off x="6810480" y="1592280"/>
                <a:ext cx="0" cy="39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810480" y="1952640"/>
                <a:ext cx="0" cy="252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810480" y="2060640"/>
                <a:ext cx="0" cy="468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6200000">
              <a:off x="6414840" y="1585800"/>
              <a:ext cx="4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516720" y="3681000"/>
            <a:ext cx="368280" cy="1040040"/>
            <a:chOff x="6516720" y="3681000"/>
            <a:chExt cx="368280" cy="1040040"/>
          </a:xfrm>
        </p:grpSpPr>
        <p:sp>
          <p:nvSpPr>
            <p:cNvPr id="147" name=""/>
            <p:cNvSpPr/>
            <p:nvPr/>
          </p:nvSpPr>
          <p:spPr>
            <a:xfrm flipV="1">
              <a:off x="6846840" y="3681000"/>
              <a:ext cx="0" cy="3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6840" y="4041720"/>
              <a:ext cx="0" cy="25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46840" y="4149720"/>
              <a:ext cx="0" cy="46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6451560" y="4287600"/>
              <a:ext cx="49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19280" y="5121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cartouche: sa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3280" y="3753000"/>
            <a:ext cx="1224000" cy="2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3789360"/>
            <a:ext cx="129708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2000" y="5769000"/>
            <a:ext cx="76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est positionné dans l’angle inférieur droit pour les formats A3 à A0. Pour le format A4, il occupe toute la largeur du cad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2960640"/>
            <a:ext cx="4076640" cy="2843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95480" y="380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ésentation des dess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1160640"/>
            <a:ext cx="52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cartouche: ce qu’il contient généra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1078200" cy="4897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59280" y="3176640"/>
            <a:ext cx="38530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 nom du des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 nom de l’établis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 nom du dessina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 format de la feu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’échelle du des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 symbole de projection europée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 numéro du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04046E-006 L 0.27656 -0.28046 E">
                                      <p:cBhvr>
                                        <p:cTn id="33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95480" y="380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ésentation des dess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16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nomenclature: ce qu’elle contient généra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8920" y="3033720"/>
            <a:ext cx="4537080" cy="3205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492360" y="2637000"/>
            <a:ext cx="1087560" cy="3816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867280" y="3357720"/>
            <a:ext cx="27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repère des piè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ur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ur désig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ur mat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verses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68208E-006 L 0.32257 -0.32509 E">
                                      <p:cBhvr>
                                        <p:cTn id="36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6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10:28:25Z</dcterms:created>
  <dc:creator>Setf</dc:creator>
  <dc:description/>
  <dc:language>en-US</dc:language>
  <cp:lastModifiedBy>Setf</cp:lastModifiedBy>
  <dcterms:modified xsi:type="dcterms:W3CDTF">2002-08-24T18:06:37Z</dcterms:modified>
  <cp:revision>62</cp:revision>
  <dc:subject/>
  <dc:title>Le dessin technique</dc:title>
</cp:coreProperties>
</file>