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4E0-68EA-48C8-8898-49314FB2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360-A723-4D8B-98A0-99B4D86F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EAF-5257-4670-B6BA-043BC88C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6AF-464E-4FB9-BA96-AA4270BA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BE5-49B2-4CFD-973D-E474D75D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087-BBA0-4104-AB2B-7F12A795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00E-8D96-438A-BC9D-FBDAF56D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4B4-9F53-4521-9897-C01E6413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B5C-EA8A-43DE-B71F-85B2A4C7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70B-7B75-4B70-B0CF-C404112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53D-F019-4BAA-9CED-E4D2B15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A73-329E-402F-8333-FE67E9FD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27E7-B992-4E0A-B886-9AF4F3762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838080"/>
            <a:ext cx="754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ES PROJECTIONS 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ORMES EXTERIEU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72000" y="3573360"/>
            <a:ext cx="3105360" cy="294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2095800">
            <a:off x="7619760" y="5714640"/>
            <a:ext cx="1295280" cy="533520"/>
          </a:xfrm>
          <a:prstGeom prst="leftArrow">
            <a:avLst>
              <a:gd name="adj1" fmla="val 50000"/>
              <a:gd name="adj2" fmla="val 606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191600">
            <a:off x="6400440" y="3429000"/>
            <a:ext cx="1295280" cy="533520"/>
          </a:xfrm>
          <a:prstGeom prst="leftArrow">
            <a:avLst>
              <a:gd name="adj1" fmla="val 50000"/>
              <a:gd name="adj2" fmla="val 606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8534400">
            <a:off x="4571640" y="5409720"/>
            <a:ext cx="1295280" cy="533520"/>
          </a:xfrm>
          <a:prstGeom prst="leftArrow">
            <a:avLst>
              <a:gd name="adj1" fmla="val 50000"/>
              <a:gd name="adj2" fmla="val 606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52280"/>
            <a:ext cx="7925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Vues extérieures en images ombré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79640" y="1119240"/>
            <a:ext cx="2771640" cy="1712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2735280" cy="169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656320" y="1125360"/>
            <a:ext cx="1724040" cy="1724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11280" y="44280"/>
            <a:ext cx="7924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Vues extérieures en dessin normalis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89480" y="3581280"/>
            <a:ext cx="3459240" cy="305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041480" y="1090440"/>
            <a:ext cx="2809800" cy="172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096920" y="4041720"/>
            <a:ext cx="2754360" cy="1687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5653080" y="1125360"/>
            <a:ext cx="172728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72000" y="3537000"/>
            <a:ext cx="3105360" cy="294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16191600">
            <a:off x="6400440" y="3429000"/>
            <a:ext cx="1295280" cy="533520"/>
          </a:xfrm>
          <a:prstGeom prst="leftArrow">
            <a:avLst>
              <a:gd name="adj1" fmla="val 50000"/>
              <a:gd name="adj2" fmla="val 606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8534400">
            <a:off x="4571640" y="5409720"/>
            <a:ext cx="1295280" cy="533520"/>
          </a:xfrm>
          <a:prstGeom prst="leftArrow">
            <a:avLst>
              <a:gd name="adj1" fmla="val 50000"/>
              <a:gd name="adj2" fmla="val 606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84360" y="0"/>
            <a:ext cx="6257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La coupe en images ombré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29080" y="2819520"/>
            <a:ext cx="4643640" cy="403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95280" y="4113360"/>
            <a:ext cx="2828880" cy="175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543640" y="112536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4113360"/>
            <a:ext cx="282888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43640" y="112536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2824200"/>
            <a:ext cx="4427640" cy="4033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6048360" y="4184280"/>
            <a:ext cx="1044720" cy="757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093080" y="4041360"/>
            <a:ext cx="755640" cy="144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5013360"/>
            <a:ext cx="61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48360" y="494172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8720" y="1160640"/>
            <a:ext cx="0" cy="165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8000" y="5013360"/>
            <a:ext cx="1619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84360" y="0"/>
            <a:ext cx="6257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La coupe en images ombré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1096920"/>
            <a:ext cx="2772000" cy="1719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08360" y="2913120"/>
            <a:ext cx="4535640" cy="394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751280" y="2855880"/>
            <a:ext cx="4392720" cy="400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332000" y="1125360"/>
            <a:ext cx="2736720" cy="1675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584360" y="0"/>
            <a:ext cx="6257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La coupe en images ombré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95280" y="4113360"/>
            <a:ext cx="282888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543640" y="112536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6257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La coupe en dessin normalis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4941720"/>
            <a:ext cx="54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4941720"/>
            <a:ext cx="503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47640" y="4941720"/>
            <a:ext cx="0" cy="432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35640" y="4941720"/>
            <a:ext cx="0" cy="432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1280" y="4834080"/>
            <a:ext cx="2556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59280" y="4797360"/>
            <a:ext cx="255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92360" y="800280"/>
            <a:ext cx="6127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6408720" y="692280"/>
            <a:ext cx="0" cy="323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8720" y="292428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08360" y="836640"/>
            <a:ext cx="5396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408360" y="3141720"/>
            <a:ext cx="5396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00720" y="333360"/>
            <a:ext cx="255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300720" y="3500280"/>
            <a:ext cx="255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736720" cy="167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584360" y="0"/>
            <a:ext cx="6257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La coupe en images ombré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95280" y="4113360"/>
            <a:ext cx="282888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543640" y="112536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332000" y="4054320"/>
            <a:ext cx="2916000" cy="1787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508720" y="1125360"/>
            <a:ext cx="1765080" cy="1740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349280" y="1135080"/>
            <a:ext cx="2827440" cy="1717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92000" y="4941720"/>
            <a:ext cx="3635640" cy="0"/>
          </a:xfrm>
          <a:prstGeom prst="line">
            <a:avLst/>
          </a:prstGeom>
          <a:ln w="1908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8720" y="800280"/>
            <a:ext cx="0" cy="2447640"/>
          </a:xfrm>
          <a:prstGeom prst="line">
            <a:avLst/>
          </a:prstGeom>
          <a:ln w="1908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4:24:52Z</dcterms:created>
  <dc:creator>dupin</dc:creator>
  <dc:description/>
  <dc:language>en-US</dc:language>
  <cp:lastModifiedBy>dupin</cp:lastModifiedBy>
  <dcterms:modified xsi:type="dcterms:W3CDTF">2003-12-04T10:09:48Z</dcterms:modified>
  <cp:revision>80</cp:revision>
  <dc:subject/>
  <dc:title>Présentation PowerPoint</dc:title>
</cp:coreProperties>
</file>